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0D93-49BB-47DB-850C-5B960F1F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2D8E-80CB-437D-BAF2-F2F7E68E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F586-5E3F-4212-8B4E-A9A4AD064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ED70-CD45-4DF1-B7A2-CB812154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C884-6449-47DD-BB22-4096E88C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E22C-725C-44D9-81DD-B40D1DEB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0675-6EDC-496E-B075-13F3F64B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22CB-7560-49DD-9D75-986E8491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AE3B-DD1C-44D3-988A-E36CBCC4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0F89-1F6F-48BD-814E-7BB1D3F5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546A-928E-432E-9D70-8C1368D9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1EEB-2F73-4CEB-A226-969E415E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7B04-D5F7-4C9F-9118-23E85F3FC51E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dividual Differences Among Learn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theories of learning are attempts to describe universal human traits in lear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‘seek to explain globally how people perceive, filter, store, and recall information’. (Brown, 1994:1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models of learning do not account for the plethora of differences across individuals in the way they lear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le we all exhibit inherently human traits of learning, every individual approaches a problem or learns a set of facts from a unique perspec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than individual traits such 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tellige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otiv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ttitud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ers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evel of first langua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mpathy and a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gnitive variation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ch 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ptitud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earning styl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earning strategi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ncoura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hib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 language lear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development of individualised instruction is partly due to a wish to release the learners from the need to work at the same ra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other possibility is to stream students into different classes for different levels of aptitude, say highfliers, average, and below avera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viding different teaching methods and final exams for different types of aptitude might not be such a good ideas as this would be a luxury in terms of staffing and experti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reover, the student whose performance is dismal in one subject may be gifted in anoth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us, only in individualised or self-directed learning perhaps can this be overcom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is common knowledge among teachers that learners differ in their preferences in language learn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need to learn grammatical rules, others claim to know them intuitivel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cannot remember anything unless they write it down, other have very good memor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se have been attributed to differences in cognitive or learning styles in individu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arning styles mediate between emotion and cognition and refer to “the ways a student prefers to go about learning” (Chitravelu et al., 1995:11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gnitive style has also been defined as “a person’s typical ways of thinking, seen as a continuum between field-dependent cognitive style in which thinking relates to context and field-independent style in which it is independent of context” (Cook, 1991: 86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second language learning, it may be incorrect to assume that learners should be either field-dependent or field-independ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more likely that people have general inclinations, but given certain contexts, can exercise some degree of an appropriate sty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arners of different learning styles employ different strategies of learning (De Bono, 1976; Toncheva, 1992; &amp; Chryschocoos, 1992 in Bahiyah, 1993: 32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 such, Chitravelu (1995:12) suggests that a teacher should be sensitive to an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accommodate the students’ preferences for learning styles and strategies to bring about “improved learner satisfaction and attainment”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1T18:57:51Z</dcterms:created>
  <dc:creator>Owner</dc:creator>
  <dc:description/>
  <dc:language>en-US</dc:language>
  <cp:lastModifiedBy>Buckrie</cp:lastModifiedBy>
  <dcterms:modified xsi:type="dcterms:W3CDTF">2011-12-15T07:34:26Z</dcterms:modified>
  <cp:revision>5</cp:revision>
  <dc:subject/>
  <dc:title>Learning How To Learn</dc:title>
</cp:coreProperties>
</file>